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arbrake.wav" ContentType="audio/x-wav"/>
  <Override PartName="/ppt/media/image12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7FDD-B34E-4D7E-96D4-0BD4529AD6B7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who discovere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Chargaf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i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50, biochemist Erwin Chargaff found that the arrangement of nitrogen bases in DNA varied wide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certain bases always occurred in a one-to-one rati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bases always match up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– Thymine and Cytosine -- 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920-195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X-ray techniques took pictures of DNA and discovered the double helix shape of D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d of cancer due to unknown harmful affects of X-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Watson and Francis Cr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s to create a model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till the model used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s are made of sugar and phosphat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gs of the ladder are made of        nitrogen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5 elements: carbon,            hydrogen, oxygen, nitrogen, and phosph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gor Men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18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nastery known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and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death (1884) acknowledgment of 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es in 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n as “The Father of Genetics“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Pea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 to describe how traits are inher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ed at pea plants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udied 9 generation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noticed that peas are easy to breed for pure traits and he called the pure strains purebr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eveloped pure strains of peas for seven different traits (i.e. tall or short, round or wrinkled, yellow or green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rossed these pure strains to produce hybr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rossed purebred tall plants with purebred short plants and the first generation plants were all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tall offspring were crossed the result was a ratio of 3 tall to 1 sh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ts Mendel Looked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Hereditary traits cover weak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strong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– Represented by CAPITAL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weak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– Represented by lower case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rick Griff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d in the 1920’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onomist – a scientist who classifies      and names organisms – He specialized in pathogens (disease-causing organis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mice and bacterium (Streptococcus pneumonia) to see if inherited material is passed though DNA or prote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wald A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Griffith’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d DNA as the material that passes on the inherited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used large amounts of bacteria and a process of heating and mixing the liquids to extract the nitrogen bases away from th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me world’s first genetic engi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984-906E-4CDA-8268-04714CB2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2F7-58CE-49AD-8B25-47F19AC3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B7E-7CAB-46AF-82FC-B559D9D4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885-5F0A-41A6-BD16-61C96F46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9D2-9766-4A68-A32E-1968C6B8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AF6-8823-4052-A212-9475C796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3CB-C156-47CF-BC6F-95EBC523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299-20E5-4A39-AA60-D7B20F60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333-853D-4855-90BD-3CDD6E11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3DB-CFD8-4379-B521-0AD57841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EE3-D122-48A6-82E0-172C1DD7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519-CAC0-46DC-9A7E-C411D012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2E92-FD30-49BD-9FD8-F447A65D476C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3833640"/>
            <a:ext cx="6400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rwin Chargaf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 his ru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2" name="Picture 2" descr="Erwin Chargaff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23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2209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50, biochemist Erwin Chargaff found that the arrangement of nitrogen bases in DNA varied widely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e amount of certain bases always occurred in a one-to-one ratio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itrogen bases always match up like thi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denine – Thymine and Cytosine -- Guanine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osalind Frankl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(1920-1953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ing X-ray techniques took pictures of DNA and discovered the double helix shape of DN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ed of cancer due to unknown harmful affects of X-r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2" descr="http://upload.wikimedia.org/wikipedia/en/thumb/9/97/Rosalind_Franklin.jpg/180px-Rosalind_Franklin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upload.wikimedia.org/wikipedia/commons/d/d5/Dna-split2.png"/>
          <p:cNvPicPr/>
          <p:nvPr/>
        </p:nvPicPr>
        <p:blipFill>
          <a:blip r:embed="rId2"/>
          <a:stretch/>
        </p:blipFill>
        <p:spPr>
          <a:xfrm>
            <a:off x="3733920" y="4343400"/>
            <a:ext cx="3047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rst scientists to create a model of DN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t is still the model used tod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des are made of sugar and phosphate molec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ngs of the ladder are made of        nitrogen bas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de of 5 elements: carbon,            hydrogen, oxygen, nitrogen, and phosphoru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" name="Picture 10" descr="http://www.chemheritage.org/classroom/chemach/images/smfotos/07pharma/watson-crick.jpg"/>
          <p:cNvPicPr/>
          <p:nvPr/>
        </p:nvPicPr>
        <p:blipFill>
          <a:blip r:embed="rId1"/>
          <a:stretch/>
        </p:blipFill>
        <p:spPr>
          <a:xfrm>
            <a:off x="6629400" y="3733920"/>
            <a:ext cx="241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gor Mendel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6" descr="mendel"/>
          <p:cNvPicPr/>
          <p:nvPr/>
        </p:nvPicPr>
        <p:blipFill>
          <a:blip r:embed="rId1"/>
          <a:stretch/>
        </p:blipFill>
        <p:spPr>
          <a:xfrm>
            <a:off x="152280" y="0"/>
            <a:ext cx="1876680" cy="2409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00400" y="1295280"/>
            <a:ext cx="533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ustrian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Born in 18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In monastery known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research and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fter his death (1884) acknowledgment of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discoveries in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Known as “The Father of Genetics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Pea Pla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cientist to describe how traits are inheri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oked at pea plants for 8 y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 studied 9 generations of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3" descr="pea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Observatio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noticed that peas are easy to breed for pure traits and he called the pure strains purebre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developed pure strains of peas for seven different traits (i.e. tall or short, round or wrinkled, yellow or green, etc.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crossed these pure strains to produce hybri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Resul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1599840"/>
            <a:ext cx="792468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del crossed purebred tall plants with purebred short plants and the first generation plants were all ta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these tall offspring were crossed the result was a ratio of 3 tall to 1 sh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19" descr="hal"/>
          <p:cNvPicPr/>
          <p:nvPr/>
        </p:nvPicPr>
        <p:blipFill>
          <a:blip r:embed="rId1"/>
          <a:stretch/>
        </p:blipFill>
        <p:spPr>
          <a:xfrm>
            <a:off x="380880" y="4038480"/>
            <a:ext cx="8382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Traits Mendel Looked 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3" descr="pea"/>
          <p:cNvPicPr/>
          <p:nvPr/>
        </p:nvPicPr>
        <p:blipFill>
          <a:blip r:embed="rId1"/>
          <a:stretch/>
        </p:blipFill>
        <p:spPr>
          <a:xfrm>
            <a:off x="344520" y="1676520"/>
            <a:ext cx="839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ominant Trait Ru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ong Hereditary traits cover weak trait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strong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INANT – Represented by CAPITAL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weak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essive – Represented by lower case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redrick Griffi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orked in the 1920’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axonomist – a scientist who classifies      and names organisms – He specialized in pathogens (disease-causing organism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mice and bacterium (Streptococcus pneumonia) to see if inherited material is passed though DNA or protein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File:Griffithm.jpg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swald Aver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inued Griffith’s 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dentified DNA as the material that passes on the inherited inform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used large amounts of bacteria and a process of heating and mixing the liquids to extract the nitrogen bases away from the prote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 world’s first genetic engine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http://upload.wikimedia.org/wikipedia/commons/thumb/e/eb/Oswald_T._Avery_portrait_1937.jpg/150px-Oswald_T._Avery_portrait_1937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0:13:48Z</dcterms:created>
  <dc:creator>CCSD</dc:creator>
  <dc:description/>
  <dc:language>en-US</dc:language>
  <cp:lastModifiedBy>RomaK</cp:lastModifiedBy>
  <dcterms:modified xsi:type="dcterms:W3CDTF">2015-09-04T11:36:04Z</dcterms:modified>
  <cp:revision>17</cp:revision>
  <dc:subject/>
  <dc:title>The History of 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1251033</vt:lpwstr>
  </property>
</Properties>
</file>